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DB8-A350-4720-8A70-18383FC21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16D6-7668-43C4-A11A-89BCA8E90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8CE-83AD-4251-9F3E-A9DDDCA9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BEB-81EE-4572-9738-CB11EF7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E2C-A4CA-47B8-A882-3FD2D991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24B-2D68-4FF9-94F7-AB6AA6BD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ECB-FDF6-4D30-AF81-D92B54F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27A-B44D-477D-B2F6-8EBA350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0D6-3F7C-4562-BA02-D9FA63D8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AC-4964-43E7-B4C0-ABFAB8A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BF1-B53F-4CC4-95DE-B90F54C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A8B-42AF-44E2-98F3-BAF6C12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01C-2A15-4E98-A9FF-C583DDA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5D7-1477-4760-B571-C3DEFECE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157C-1806-436A-9444-E56CBF5373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ка и реализация индивидуальных образовательных маршрутов (АООП) для детей с ОВЗ и инвалидностью в образовательной организ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71520" y="3886200"/>
            <a:ext cx="54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Скуратовская М.Л., зав. кафедрой «Дефектология и инклюзивное образов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ФГБОУ ВО «Донской государственный технический университ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основные общеобразовательные программы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токол № 6/17 от 7.12.201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адаптированные образовательные программы направлены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оздание развивающей образовательной среды, которая представляет собой систему условий социализации и индивид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А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образовательной модели, обеспечивающей полноценное и разностороннее развитие личности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 ДО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пенсирующей направл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бинирован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22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общеразвивающей направленности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, по желанию родителей и по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ю ПМПК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один ребенок с ОВ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14360" y="1590840"/>
            <a:ext cx="83026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бинированно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О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ы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 инклюзивного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ООП                                     АО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8" descr="C:\Users\Ulmart\Desktop\Архангелск\scrn_big_1.jpg"/>
          <p:cNvPicPr/>
          <p:nvPr/>
        </p:nvPicPr>
        <p:blipFill>
          <a:blip r:embed="rId1"/>
          <a:stretch/>
        </p:blipFill>
        <p:spPr>
          <a:xfrm>
            <a:off x="468360" y="1844640"/>
            <a:ext cx="4700520" cy="458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lmart\Desktop\Архангелск\iGNAWFGEY.jpg"/>
          <p:cNvPicPr/>
          <p:nvPr/>
        </p:nvPicPr>
        <p:blipFill>
          <a:blip r:embed="rId2"/>
          <a:stretch/>
        </p:blipFill>
        <p:spPr>
          <a:xfrm>
            <a:off x="5148360" y="184464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. 2.11.2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Д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рганизаци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люзивного образования по основаниям, не связанным с ОВ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ажено в ст. 42 ФЗ-2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ыделение данного раздела не является обязательным; в случае же его выделения содержание данного раздела определяется ОО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ава 2, Статья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оссийской Федерации устанавливаются следующ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ни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ошколь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чаль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реднее обще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иентиры при составлении А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методов обучения и воспитания, адекватных возрасту ребенка с ОВЗ, его физическому и психическому состоя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оздание оптимальных условий совместного обучения детей с ОВЗ и их нормально развивающихся сверстников (без ОВЗ и ООП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адекватных вспомогательных средств и педагогических прием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ганизацию совместных форм работы воспитателей, педагогов-психологов, учителей-логопедов, учителей-дефектологов и на другие ориенти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273 статья 79.3….специальными услови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образовательных программ и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учебников, учебных пособий и дидактических материал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технических средств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услуг ассистента (помощника), оказывающего обучающимся необходимую техническ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групповых и индивидуальных коррекционных занят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а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условия, без которых невозможно или затруднено освоение образовательных программ обучающимися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пециальных образовате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 стрелкой 21"/>
          <p:cNvCxnSpPr/>
          <p:nvPr/>
        </p:nvCxnSpPr>
        <p:spPr>
          <a:xfrm>
            <a:off x="4571640" y="3141360"/>
            <a:ext cx="1080" cy="1436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32" name="Группа 30"/>
          <p:cNvGrpSpPr/>
          <p:nvPr/>
        </p:nvGrpSpPr>
        <p:grpSpPr>
          <a:xfrm>
            <a:off x="318960" y="1628640"/>
            <a:ext cx="8640720" cy="4996080"/>
            <a:chOff x="318960" y="1628640"/>
            <a:chExt cx="8640720" cy="4996080"/>
          </a:xfrm>
        </p:grpSpPr>
        <p:sp>
          <p:nvSpPr>
            <p:cNvPr id="133" name="Овал 3"/>
            <p:cNvSpPr/>
            <p:nvPr/>
          </p:nvSpPr>
          <p:spPr>
            <a:xfrm>
              <a:off x="2911320" y="3284280"/>
              <a:ext cx="331164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пециальные образовательные усл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4"/>
            <p:cNvSpPr/>
            <p:nvPr/>
          </p:nvSpPr>
          <p:spPr>
            <a:xfrm>
              <a:off x="6080040" y="4292640"/>
              <a:ext cx="2879640" cy="180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Организация психолого-педагогического сопрово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Овал 5"/>
            <p:cNvSpPr/>
            <p:nvPr/>
          </p:nvSpPr>
          <p:spPr>
            <a:xfrm>
              <a:off x="3198600" y="5229360"/>
              <a:ext cx="2881080" cy="1395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оциальное партне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6"/>
            <p:cNvSpPr/>
            <p:nvPr/>
          </p:nvSpPr>
          <p:spPr>
            <a:xfrm>
              <a:off x="318960" y="4508640"/>
              <a:ext cx="259236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Материально-техн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7"/>
            <p:cNvSpPr/>
            <p:nvPr/>
          </p:nvSpPr>
          <p:spPr>
            <a:xfrm>
              <a:off x="3055680" y="1628640"/>
              <a:ext cx="2950920" cy="144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Финансово-эконом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8"/>
            <p:cNvSpPr/>
            <p:nvPr/>
          </p:nvSpPr>
          <p:spPr>
            <a:xfrm>
              <a:off x="318960" y="1989000"/>
              <a:ext cx="2663640" cy="151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Нормативно-правовое сопровож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9"/>
            <p:cNvSpPr/>
            <p:nvPr/>
          </p:nvSpPr>
          <p:spPr>
            <a:xfrm>
              <a:off x="6080040" y="1915920"/>
              <a:ext cx="2519280" cy="151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Кадровое обеспеч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Прямая со стрелкой 15"/>
            <p:cNvCxnSpPr/>
            <p:nvPr/>
          </p:nvCxnSpPr>
          <p:spPr>
            <a:xfrm>
              <a:off x="2406240" y="3429000"/>
              <a:ext cx="721440" cy="28800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17"/>
            <p:cNvCxnSpPr/>
            <p:nvPr/>
          </p:nvCxnSpPr>
          <p:spPr>
            <a:xfrm flipV="1">
              <a:off x="2766960" y="4652280"/>
              <a:ext cx="50544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2" name="Прямая со стрелкой 25"/>
            <p:cNvCxnSpPr/>
            <p:nvPr/>
          </p:nvCxnSpPr>
          <p:spPr>
            <a:xfrm flipV="1">
              <a:off x="4639680" y="4941360"/>
              <a:ext cx="108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3" name="Прямая со стрелкой 27"/>
            <p:cNvCxnSpPr/>
            <p:nvPr/>
          </p:nvCxnSpPr>
          <p:spPr>
            <a:xfrm flipH="1">
              <a:off x="6006600" y="3283920"/>
              <a:ext cx="505440" cy="432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4" name="Прямая со стрелкой 29"/>
            <p:cNvCxnSpPr/>
            <p:nvPr/>
          </p:nvCxnSpPr>
          <p:spPr>
            <a:xfrm flipH="1">
              <a:off x="6079680" y="4365360"/>
              <a:ext cx="792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мплектованность образовательного учреждения педагогическими и руководящими работниками, компетентными в понимании особых образовательных потребностей детей с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педагогических и иных работников образовательного учреждения в области образования детей с ОВЗ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 в сфере коррекционной (специальной) педагогики, специальной психологии и клинической детской псих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24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</a:t>
            </a: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980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ие условия реализации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птированной образовательной программ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обеспечивать соблюд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х нор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 с учетом потребностей детей с ОВЗ, обучающихся в данном учреждении (требования к водоснабжению, канализации, освещению, воздушно-тепловому режиму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ля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репятственного доступ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 к объектам инфраструктуры образовательного учреждения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бытовых услов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ей детей с ОВЗ, обучающихся в данном учреждении (наличие оборудованных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деробов, санузл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ст личной гигиены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бытовых условий с учетом конкретных потребностей ребенка с ОВЗ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ающегося в данном учреждении (наличие адекватно оборудованного пространства школьного учреждения,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го мес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и т. д.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и электробезопасности, с учетом потребностей детей с ОВЗ, обучающихся в данном учрежден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реализации АООП/А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560" y="134136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объеме определяемых органами государственной власти субъектов Российской Федерации нормативов обеспечения государственных гарантий реализации прав на получение общедоступного и бесплат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и условиями получения образования (кадровыми, материально-техническ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оплату труда работников, реализующих АООП/А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обучения и воспитания, коррекции (компенсации) нарушений развития, включающими расходные и дидактические материалы, оборудова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, электронные ресурсы, оплату услуг связи, в том числе расходами, связанными с подключением к информационно-телекоммуникационной сети "Интернет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, связанным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м профессиональным образованием руководящих и педагогических работ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и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и расходами, связанными с реализацией и обеспечением реализации АООП, в том числе с круглосуточным пребыванием обучающихся с ОВЗ в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Целевой раз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Планируемые результаты освоения обучающими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АООП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левые ориентиры в соответствие с ФГОС ДО и учетом психо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варительной подготовке к разработке АООП (АОП) рекомендуем составить следующую рабочую табл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700280"/>
          <a:ext cx="8856720" cy="34574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945360"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 (целевые ориентир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оценки (индикаторы оценив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разработки программы (нормативные докуме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Ф» (от 29.12.2012 № 273-Ф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(приказ МОиН РФ от 17.10.2013 № 1155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 дошкольных образовательных организаций (утв. Постановлением Главного государственного санитарного врача РФ от 15. 05. 2013 г. № 26)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щеобразовательная программа. Одобрена ФУМО по общему образованию (протокол от 20.05.2015 № 2/15)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ые адаптированные основные общеобразовательные программы дошкольного образования (протокол № 6/17 от 7.12.2017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особенностей психофизиологического развития детей с ОВ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(из ФГОС с учетом категории де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ловий развит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видящих дете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(или)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 с функциональными нарушениями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х обеспечить возможности дл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зитивной социализации, личностного развития, развития инициативы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сотрудничества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а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возрасту видам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ектирование мод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й  и коррекционно-развивающей психолого-педагогической работы, максимально обеспечивающей создание условий для развития  детей ЗПР дошкольного возраста  в группах компенсирующей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мбинирова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, их позитивной социализации, интеллектуального, социально-личностного, художественно-эстетического и физического  развития на основе сотрудничества со взрослыми и сверстниками в соответствующих возрасту видах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Целевые ориенти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исходя из возрастных и психофизических возможностей детей написать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года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мер целевые ориентиры из примерной адаптированной программы для детей с ТН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к устойчивому эмоциональному контакту со взрослым и сверстниками…;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отдельные ролевые действия, носящие условный характер; участвует в разыгрывании сюжета: цепочки двух-трех действий (воображаемую ситуацию удерживает взрослый);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самостояте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9080" y="1341360"/>
          <a:ext cx="8675640" cy="5178600"/>
        </p:xfrm>
        <a:graphic>
          <a:graphicData uri="http://schemas.openxmlformats.org/drawingml/2006/table">
            <a:tbl>
              <a:tblPr/>
              <a:tblGrid>
                <a:gridCol w="4230360"/>
                <a:gridCol w="444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21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основные цв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цвета окружающих предметов и предметных изобра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игрушки с цветными и силуэтными изображения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плоскостные геометрические фигуры (круг, квадрат, треугольник) и объемные геометрические тела (куб, шар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форму предметов ближайшего окружения с геометрическими эталон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основные цвета, а также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ричневый, черный и бел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цвет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зывать цвета окружающих предметов и предметных изображений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…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объемные геометрические тела (шар, куб, цилиндр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предметы заданной формы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кружающей обстановке и в изображения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оцени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чества условий образо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 предусматривается 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качества образовательной деятельности организации на основе достижения детьми планируемых результатов освоения Програм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ются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и другие условия реализации основной образовательной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рганизации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 образовательных област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ных Стандарт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едпочтения и удовлетвор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школьным образованием со сторон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и реб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индивидуального развития ребенка в контексте оценки работы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417680"/>
            <a:ext cx="878544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ниторинга динамики индивидуального развития детей, динамики их образовательных достиже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: оценка реализации АООП родителями, анализ форума сайт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417320"/>
            <a:ext cx="8928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анкетирование педагогов удовлетворенностью образовательным процессом в соответствии с ФГОС Д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одится руководителем ОУ и его замест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самоанализ деятельности образовательного учреждения– проводится руководителем ОУ и его заместител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система мониторинга динамики индивидуального  развития детей, динамики их образовательных дост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гут быть предусмотре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анкета для самоанал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анкеты дл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в: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карты обследования детей специалис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обследование ребенка воспитателем и  музыкальным руководителем, специалистом по физической культуре и др. (может быть зафиксировано в одной карт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83664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1)учебного плана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календарного учебного граф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рабочих програм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сциплин (модулей), 4)иных компонентов, а такж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ценочных и 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ниторинга динамики индивидуального  развит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201600" y="1365120"/>
            <a:ext cx="88502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 реализации АООП может включать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ценку реализации АООП родителями (анкетирование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анализ форума сайта образовательного учреждения (критерии для анализ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197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ариа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, форм и методо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, насколько ОП способству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тношению к ожиданиям ребенка, семьи, педагогов, общества и госу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дагогами Организации собственной работы и независимая профессиональная и общественная оц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 образовательной деятельности 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спользует единые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струменты, оценивающие условия реализации программы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в Организации,  как для самоанализа, так и для внешнего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одержательный компонент АООП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Содержание образовательной работы по пяти образовательным областя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; познавательное развитие; речевое развитие; художественно-эстетическое развитие; физическое развитие, которое зависит от возраста детей: младенческий, ранний, дошкольный). Может быть представлено в виде таблицы, может носить описательны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4869000"/>
          <a:ext cx="8497800" cy="1444320"/>
        </p:xfrm>
        <a:graphic>
          <a:graphicData uri="http://schemas.openxmlformats.org/drawingml/2006/table">
            <a:tbl>
              <a:tblPr/>
              <a:tblGrid>
                <a:gridCol w="2881440"/>
                <a:gridCol w="5616360"/>
              </a:tblGrid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2.Содержание Вариативной част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ое направление Д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2.Взаимодействие взрослых с дет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ой является личностно-пораждающее взаимодей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……………………….(след. слай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дачами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оциально-коммуникативного развития являются создание условий для: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норм и ценностей, принятых в обществе, включая моральные и нравственные це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общения и взаимодействия ребёнка со взрослыми и сверстниками доступными возрасту и психофизиологическим особенностям средства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самостоятельности, целенаправленности и саморегуляции собственных действий в игров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установок к различным видам труда и творче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го поведения в быту, социуме,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 сфере усвоения норм и ценностей, принятых в обществе, включая моральные и нравственные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оздают условия для формирования у ребенка уверенности в себе и своих возможностях. Способствуют развитию у ребенка чувства собственного достоинства, осознанию своих прав и свобод (иметь собственное мнение, выбирать друзей, виды деятельности, иметь личные вещи, по собственному усмотрению использовать личное врем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пособствуют поддержанию самостоятельности, формированию адекватной самооценки собственной деятельности, поведения, развитию эмоциональной отзывчивости, сопереживания, формированию готовности к совместной деятельности со сверстниками, уважительного отношения и чувства принадлежности к своей семье, к сообществу детей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ООП должны быть определены общие направления взаимодействия (частные мероприятия включаются в годовой план ОО и рабочие программы воспитателей и специалис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149720"/>
          <a:ext cx="8856720" cy="2344680"/>
        </p:xfrm>
        <a:graphic>
          <a:graphicData uri="http://schemas.openxmlformats.org/drawingml/2006/table">
            <a:tbl>
              <a:tblPr/>
              <a:tblGrid>
                <a:gridCol w="1944720"/>
                <a:gridCol w="2484360"/>
                <a:gridCol w="2213280"/>
                <a:gridCol w="2214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анали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зучение семьи, выяснение образовательных потребностей родителей д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огласования воспитательных воздействий н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кетирование родителей,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507520" cy="4197600"/>
        </p:xfrm>
        <a:graphic>
          <a:graphicData uri="http://schemas.openxmlformats.org/drawingml/2006/table">
            <a:tbl>
              <a:tblPr/>
              <a:tblGrid>
                <a:gridCol w="1866960"/>
                <a:gridCol w="2387520"/>
                <a:gridCol w="2125800"/>
                <a:gridCol w="212724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педагогической культур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собр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я откры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и открытых дв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-клас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ьскими комит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Федеральные государственные образовательные стандарты …обеспечивают: 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иативность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рограмм соответствующего уровня образования, возможность формирования образовательны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амм различного уровня сложности и направленност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етом образовательных потребностей и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Содержание коррекционной рабо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ля групп компенсирующей, комбинированной направленности и включения (инкл. обр.) одного ребенка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рм, способов, 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4360" y="1628640"/>
          <a:ext cx="8064360" cy="1454400"/>
        </p:xfrm>
        <a:graphic>
          <a:graphicData uri="http://schemas.openxmlformats.org/drawingml/2006/table">
            <a:tbl>
              <a:tblPr/>
              <a:tblGrid>
                <a:gridCol w="2687400"/>
                <a:gridCol w="53769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-развивающей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работы каждого специалиста,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147160" cy="3851280"/>
        </p:xfrm>
        <a:graphic>
          <a:graphicData uri="http://schemas.openxmlformats.org/drawingml/2006/table">
            <a:tbl>
              <a:tblPr/>
              <a:tblGrid>
                <a:gridCol w="2089080"/>
                <a:gridCol w="1596960"/>
                <a:gridCol w="1508400"/>
                <a:gridCol w="1512720"/>
                <a:gridCol w="14400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дефект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У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836280"/>
            <a:ext cx="892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Услови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.Психолого-педагогические условия, обеспечивающие развитие ребен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порождающее взаимодействие взрослых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сть педагогической оценки на относительные показатели детской успеш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развитие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220680" y="640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.Организация развивающей предметно-пространственной ср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о-насыще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C:\Users\Ulmart\Desktop\Архангелск\qdaq_sasybhz_avcpkqd_2.jpg"/>
          <p:cNvPicPr/>
          <p:nvPr/>
        </p:nvPicPr>
        <p:blipFill>
          <a:blip r:embed="rId1"/>
          <a:stretch/>
        </p:blipFill>
        <p:spPr>
          <a:xfrm>
            <a:off x="250920" y="189000"/>
            <a:ext cx="4503600" cy="450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Ulmart\Desktop\Архангелск\3974.jpg"/>
          <p:cNvPicPr/>
          <p:nvPr/>
        </p:nvPicPr>
        <p:blipFill>
          <a:blip r:embed="rId2"/>
          <a:stretch/>
        </p:blipFill>
        <p:spPr>
          <a:xfrm>
            <a:off x="3780000" y="3284640"/>
            <a:ext cx="4716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Ulmart\Desktop\Архангелск\qo.jpg"/>
          <p:cNvPicPr/>
          <p:nvPr/>
        </p:nvPicPr>
        <p:blipFill>
          <a:blip r:embed="rId1"/>
          <a:stretch/>
        </p:blipFill>
        <p:spPr>
          <a:xfrm>
            <a:off x="826920" y="549360"/>
            <a:ext cx="6121440" cy="33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Ulmart\Desktop\Архангелск\T2d7GeXhhbXXXXXXXX_!!695329745.jpg"/>
          <p:cNvPicPr/>
          <p:nvPr/>
        </p:nvPicPr>
        <p:blipFill>
          <a:blip r:embed="rId2"/>
          <a:stretch/>
        </p:blipFill>
        <p:spPr>
          <a:xfrm>
            <a:off x="3635280" y="3284640"/>
            <a:ext cx="5192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.Кадровые усло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(Mинздравсоцразвития России) от 26 августа 2010 г. N 761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ск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Единого квалификационного справочника должностей руководителей, специалистов и служащих, раздел "Квалификационные характеристики должностей работников образования"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.Материально-технически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165240" y="1603440"/>
            <a:ext cx="8991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возможностей и при необходимости обеспечивающая коррекцию нарушений разви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циальную адаптацию указанных 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5. Финансов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ограммы определяется существующей нормативной документацией (федеральной, региональн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549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ическом развити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твержденные психолого-медико-педагогической комисс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пятствующие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к ФГОС дошкольного образования. Минобрнауки России от 28 февраля 2014 год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08-24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Программа разрабатывается и утверждается Организацией самостоятельно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настоящим Стандартом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чё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х програм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ный в разде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нкта 2.5. ФГОС ДО, а также в ФЗ-273 термин «с учетом» означает право и предоставленную Организации возможность ознакомиться с существующими примерными программами, оценить их пригодность для своей образовательной деятельности и принять решение об использовании или неиспользовании данных примерных программ при разработке программы (программ) Д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окол № 2/15 от 20.05.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26:33Z</dcterms:created>
  <dc:creator>User</dc:creator>
  <dc:description/>
  <dc:language>en-US</dc:language>
  <cp:lastModifiedBy>Пользователь</cp:lastModifiedBy>
  <cp:lastPrinted>2012-12-05T04:15:31Z</cp:lastPrinted>
  <dcterms:modified xsi:type="dcterms:W3CDTF">2023-12-15T13:52:35Z</dcterms:modified>
  <cp:revision>276</cp:revision>
  <dc:subject/>
  <dc:title>Опыт инклюзивного образования в Санкт-Петербурге</dc:title>
</cp:coreProperties>
</file>